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8035-6DB2-4DDE-B664-F12CB8A2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2FA-D8C9-4E5B-A78F-ECEBC2AD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97F4-DC91-43AA-B67C-687DE335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FE50-85A2-41DD-8952-80BF7DE1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FA24-0ED0-4E51-905D-AE64FCFD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EBC9-F27B-4313-9A35-12771533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761-658C-47AC-B752-3A1D46D8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D251-A8DE-4389-92F2-8B331067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1C1-05BB-4D23-91E8-9D5EF359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93D-54A3-450D-AE54-F3E8C70E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0A29-F744-437B-BAA8-75ACC5F9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31BC-4F74-481F-B842-249C92FA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5337-A150-484A-B838-13740028DCCC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uadroTexto 7"/>
          <p:cNvSpPr/>
          <p:nvPr/>
        </p:nvSpPr>
        <p:spPr>
          <a:xfrm>
            <a:off x="6878520" y="217440"/>
            <a:ext cx="484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Arial Narrow"/>
              </a:rPr>
              <a:t>xx mes, 202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Marcador de contenido 2"/>
          <p:cNvSpPr/>
          <p:nvPr/>
        </p:nvSpPr>
        <p:spPr>
          <a:xfrm>
            <a:off x="2703600" y="2543040"/>
            <a:ext cx="914544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95959"/>
                </a:solidFill>
                <a:latin typeface="Calibri"/>
              </a:rPr>
              <a:t>Título de la present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CuadroTexto 7"/>
          <p:cNvSpPr/>
          <p:nvPr/>
        </p:nvSpPr>
        <p:spPr>
          <a:xfrm>
            <a:off x="3567240" y="4508640"/>
            <a:ext cx="81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040"/>
                </a:solidFill>
                <a:latin typeface="Calibri"/>
              </a:rPr>
              <a:t>Servicio, departamento o unidad que correspon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ángulo 11"/>
          <p:cNvSpPr/>
          <p:nvPr/>
        </p:nvSpPr>
        <p:spPr>
          <a:xfrm>
            <a:off x="1930320" y="434880"/>
            <a:ext cx="7526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Calibri"/>
                <a:ea typeface="Arial"/>
              </a:rPr>
              <a:t>Títu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Marcador de contenido 2"/>
          <p:cNvSpPr/>
          <p:nvPr/>
        </p:nvSpPr>
        <p:spPr>
          <a:xfrm>
            <a:off x="939960" y="2522520"/>
            <a:ext cx="1031400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404040"/>
                </a:solidFill>
                <a:uFillTx/>
                <a:latin typeface="Calibri"/>
              </a:rPr>
              <a:t>Conteni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Fuente: Calibri, Arial, Arial Narr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Tamaño fuente: se recomienda tamaño 14, o según diagramación de la diapositiv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Duplicar o copiar diapositiva para mantener diseño institu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Marcador de contenido 2"/>
          <p:cNvSpPr/>
          <p:nvPr/>
        </p:nvSpPr>
        <p:spPr>
          <a:xfrm>
            <a:off x="2703600" y="2543040"/>
            <a:ext cx="914544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95959"/>
                </a:solidFill>
                <a:latin typeface="Calibri"/>
              </a:rPr>
              <a:t>Título de sec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8-25T13:44:47Z</dcterms:created>
  <dc:creator>HCSBA</dc:creator>
  <dc:description/>
  <dc:language>en-US</dc:language>
  <cp:lastModifiedBy>user</cp:lastModifiedBy>
  <dcterms:modified xsi:type="dcterms:W3CDTF">2025-02-12T18:56:26Z</dcterms:modified>
  <cp:revision>124</cp:revision>
  <dc:subject/>
  <dc:title>Presentación de PowerPoint</dc:title>
</cp:coreProperties>
</file>